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982-7E35-427E-B3A3-84C0063D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219-C741-44F1-B603-57ECC03D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6BD-40B4-426F-8D27-8F4E455D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9CC-4EC7-4768-A230-4EF56A98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6A2-8884-4A39-82DA-37AC0225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D8B-407D-4BFE-89FF-64388A86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6E0-8613-4DD3-8196-0B92C729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B4E-3C60-49BE-A6AE-13059C37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F3B-EA52-4342-88AF-34B3CA95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724-B082-4E1D-8B84-B462554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F8B-3027-491D-BD16-1968ADA0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A4B-31AD-416C-91B4-D226DCF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3B2C-DDED-44FD-B6B2-3D1173CFEF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flickr.com/photos/foxypar4/2334761926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2/2f/Medusa-acquario_di_Genova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Medusa-acquario_di_Genova.jpg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0/0b/Cetorhinus_maximus_by_greg_skomal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8/8c/Puffin_Latrabjarg_Iceland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en.wikipedia.org/wiki/File:Puffin_Latrabjarg_Iceland.jpg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a/a9/Actinia_equina_(Boulogne-sur-Mer)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commons.wikimedia.org/wiki/File:Actinia_equina_(Boulogne-sur-Mer).jpg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flickr.com/photos/oldbilluk/3984524861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geograph.org.uk/photo/229587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commons.wikimedia.org/w/index.php?title=User:AVampireTear&amp;action=edit&amp;redlink=1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jeffk42/2842809568/sizes/o/in/photostrea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www.geograph.org.uk/photo/1002137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flickr.com/photos/jlynott/9437409441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eograph.org.uk/photo/1002137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wikipedia.org/wiki/File:Sepia_officinalis_(aquarium).jpg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333399"/>
                </a:solidFill>
                <a:latin typeface="Arial"/>
              </a:rPr>
              <a:t>Bywyd Gwyllt </a:t>
            </a:r>
            <a:br>
              <a:rPr sz="5400"/>
            </a:br>
            <a:r>
              <a:rPr b="1" lang="cy-GB" sz="5400" spc="-1" strike="noStrike">
                <a:solidFill>
                  <a:srgbClr val="333399"/>
                </a:solidFill>
                <a:latin typeface="Arial"/>
              </a:rPr>
              <a:t>Môr ac Arfordir</a:t>
            </a:r>
            <a:br>
              <a:rPr sz="5400"/>
            </a:br>
            <a:r>
              <a:rPr b="1" lang="cy-GB" sz="8000" spc="-1" strike="noStrike">
                <a:solidFill>
                  <a:srgbClr val="333399"/>
                </a:solidFill>
                <a:latin typeface="Arial"/>
              </a:rPr>
              <a:t>Cymr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Cranc G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68360" y="162864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crancod yn grameno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gyffredin iawn ar arfordir C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ddod o hyd iddyn nhw mewn pyllau glan môr ac ar draethau tyw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ganddyn nhw gragen g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ganddyn nhw binsiyrn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wyta molysgiaid, pryfaid genwair a chramenogion era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0"/>
          <p:cNvGrpSpPr/>
          <p:nvPr/>
        </p:nvGrpSpPr>
        <p:grpSpPr>
          <a:xfrm>
            <a:off x="5651640" y="2349360"/>
            <a:ext cx="3106440" cy="2087640"/>
            <a:chOff x="5651640" y="2349360"/>
            <a:chExt cx="3106440" cy="2087640"/>
          </a:xfrm>
        </p:grpSpPr>
        <p:pic>
          <p:nvPicPr>
            <p:cNvPr id="149" name="Picture 15" descr="2334761926_b9d04b1a4f"/>
            <p:cNvPicPr/>
            <p:nvPr/>
          </p:nvPicPr>
          <p:blipFill>
            <a:blip r:embed="rId3"/>
            <a:stretch/>
          </p:blipFill>
          <p:spPr>
            <a:xfrm>
              <a:off x="5651640" y="2349360"/>
              <a:ext cx="310644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8"/>
            <p:cNvSpPr/>
            <p:nvPr/>
          </p:nvSpPr>
          <p:spPr>
            <a:xfrm>
              <a:off x="7958160" y="4221000"/>
              <a:ext cx="7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John Hasl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>
              <a:hlinkClick r:id="rId4"/>
            </p:cNvPr>
            <p:cNvSpPr/>
            <p:nvPr/>
          </p:nvSpPr>
          <p:spPr>
            <a:xfrm>
              <a:off x="8028000" y="4221000"/>
              <a:ext cx="647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Slefren Fô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sawl math o slefrenni môr ym moroedd C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fynhonnell fwyd bwysig i sawl anifail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defnyddio tentaclau i ddal ysglyfaet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gan rai bigiadau po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ddod o hyd iddyn nhw ar draet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5580000" y="2349360"/>
            <a:ext cx="3247920" cy="2673360"/>
            <a:chOff x="5580000" y="2349360"/>
            <a:chExt cx="3247920" cy="2673360"/>
          </a:xfrm>
        </p:grpSpPr>
        <p:pic>
          <p:nvPicPr>
            <p:cNvPr id="162" name="Picture 16" descr="File:Medusa-acquario di Genova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580000" y="2349360"/>
              <a:ext cx="322740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7"/>
            <p:cNvSpPr/>
            <p:nvPr/>
          </p:nvSpPr>
          <p:spPr>
            <a:xfrm>
              <a:off x="7813440" y="4797360"/>
              <a:ext cx="101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rancesco Cripp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8">
              <a:hlinkClick r:id="rId5"/>
            </p:cNvPr>
            <p:cNvSpPr/>
            <p:nvPr/>
          </p:nvSpPr>
          <p:spPr>
            <a:xfrm>
              <a:off x="7885080" y="4797360"/>
              <a:ext cx="86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Heulfor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 pysgodyn mwyaf yng Ngh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Gallu tyfu hyd at 10 metr o h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hidlo dŵr er mwyn bwyta plan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yr haf maen nhw’n symud o amgylch C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 fel arfer yn teithio ar eu pen eu hun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Dydyn nhw ddim yn beryglus i bo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File:Cetorhinus maximus by greg skom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916280"/>
            <a:ext cx="34354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Aderyn y Pâ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Dyma adar môr bach sydd efo traed oren a phig lliw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yr haf maen nhw’n bridio ger yr arfordir, gan gynnwys ar Ynys Mô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dodwy un wy mewn tw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treulio’r gaeaf allan ar y môr ag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wyta pysgod b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5364000" y="2268360"/>
            <a:ext cx="3443400" cy="2816280"/>
            <a:chOff x="5364000" y="2268360"/>
            <a:chExt cx="3443400" cy="2816280"/>
          </a:xfrm>
        </p:grpSpPr>
        <p:pic>
          <p:nvPicPr>
            <p:cNvPr id="185" name="Picture 13" descr="File:Puffin Latrabjarg Iceland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2268360"/>
              <a:ext cx="3443400" cy="28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8177400" y="486900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Boaw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>
              <a:hlinkClick r:id="rId5"/>
            </p:cNvPr>
            <p:cNvSpPr/>
            <p:nvPr/>
          </p:nvSpPr>
          <p:spPr>
            <a:xfrm>
              <a:off x="8172360" y="486900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8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Llamhidydd yr Harbw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llamhidyddion yn perthyn i ddolffin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eu gweld oddi ar arfordiroedd C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r adeg orau i’w gweld ydi rhwng mis Awst a mis Tachwe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wyta pysgod e.e. penwaig a mecr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8"/>
          <p:cNvGrpSpPr/>
          <p:nvPr/>
        </p:nvGrpSpPr>
        <p:grpSpPr>
          <a:xfrm>
            <a:off x="5435640" y="2133720"/>
            <a:ext cx="3344760" cy="2734920"/>
            <a:chOff x="5435640" y="2133720"/>
            <a:chExt cx="3344760" cy="2734920"/>
          </a:xfrm>
        </p:grpSpPr>
        <p:pic>
          <p:nvPicPr>
            <p:cNvPr id="199" name="Picture 16" descr="Porpoise - Allan Brandon"/>
            <p:cNvPicPr/>
            <p:nvPr/>
          </p:nvPicPr>
          <p:blipFill>
            <a:blip r:embed="rId4"/>
            <a:stretch/>
          </p:blipFill>
          <p:spPr>
            <a:xfrm>
              <a:off x="5435640" y="2133720"/>
              <a:ext cx="3311640" cy="27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7"/>
            <p:cNvSpPr/>
            <p:nvPr/>
          </p:nvSpPr>
          <p:spPr>
            <a:xfrm>
              <a:off x="7959600" y="4653000"/>
              <a:ext cx="82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Allan Brand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Môr-Grwban Lledrai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Dyma’r môr-grwban mwyaf yn y b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wyta slefrenni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dod i foroedd Cymru yn yr haf i chwilio am fw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ridio ar draethau trofannol e.e. yn y Carib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anifeilaidd prin i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Close up of dermochelys coriacea leatherback turtle"/>
          <p:cNvPicPr/>
          <p:nvPr/>
        </p:nvPicPr>
        <p:blipFill>
          <a:blip r:embed="rId3"/>
          <a:stretch/>
        </p:blipFill>
        <p:spPr>
          <a:xfrm>
            <a:off x="5219640" y="2421000"/>
            <a:ext cx="35211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Pysgod yr Anemon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perthyn i slefrenni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gan eu tentaclau bigau pigog i ddal creaduriaid bach fel berd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Pan mae’r môr ar drai mae’r rhain yn edrych fel darnau bach o jeli (maen nhw’n cuddio eu tentacl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Gallwch ddod o hyd iddyn nhw mewn pyllau glan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5796000" y="2398680"/>
            <a:ext cx="3097440" cy="2335320"/>
            <a:chOff x="5796000" y="2398680"/>
            <a:chExt cx="3097440" cy="2335320"/>
          </a:xfrm>
        </p:grpSpPr>
        <p:pic>
          <p:nvPicPr>
            <p:cNvPr id="221" name="Picture 13" descr="File:Actinia equina (Boulogne-sur-Mer)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796000" y="2398680"/>
              <a:ext cx="307332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4"/>
            <p:cNvSpPr/>
            <p:nvPr/>
          </p:nvSpPr>
          <p:spPr>
            <a:xfrm>
              <a:off x="7081920" y="436572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© Hans Hillewaert / CC-BY-SA-3.0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5">
              <a:hlinkClick r:id="rId5"/>
            </p:cNvPr>
            <p:cNvSpPr/>
            <p:nvPr/>
          </p:nvSpPr>
          <p:spPr>
            <a:xfrm>
              <a:off x="7164360" y="450864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3984524861_76388b27f3"/>
          <p:cNvPicPr/>
          <p:nvPr/>
        </p:nvPicPr>
        <p:blipFill>
          <a:blip r:embed="rId1"/>
          <a:stretch/>
        </p:blipFill>
        <p:spPr>
          <a:xfrm>
            <a:off x="5292720" y="2492280"/>
            <a:ext cx="3538440" cy="25052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2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Morloi Llwy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40% o forloi llwyd y byd i’w canfod ym Mhryd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’r clwstwr mwyaf ar yr ynysoedd oddi ar arfordir Sir Ben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’r morloi yn rhoi genedigaeth yn ystod yr hydref mewn cildraethau anghysbell lle cân nhw lony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Lloi bach ydi enw babis mor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8269200" y="4797360"/>
            <a:ext cx="54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oldbill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>
            <a:hlinkClick r:id="rId2"/>
          </p:cNvPr>
          <p:cNvSpPr/>
          <p:nvPr/>
        </p:nvSpPr>
        <p:spPr>
          <a:xfrm>
            <a:off x="8317080" y="479736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9"/>
          <p:cNvGrpSpPr/>
          <p:nvPr/>
        </p:nvGrpSpPr>
        <p:grpSpPr>
          <a:xfrm>
            <a:off x="5435640" y="2276640"/>
            <a:ext cx="3216240" cy="2457360"/>
            <a:chOff x="5435640" y="2276640"/>
            <a:chExt cx="3216240" cy="2457360"/>
          </a:xfrm>
        </p:grpSpPr>
        <p:pic>
          <p:nvPicPr>
            <p:cNvPr id="235" name="Picture 16" descr="Herring gull at Kynance Cove"/>
            <p:cNvPicPr/>
            <p:nvPr/>
          </p:nvPicPr>
          <p:blipFill>
            <a:blip r:embed="rId1"/>
            <a:stretch/>
          </p:blipFill>
          <p:spPr>
            <a:xfrm>
              <a:off x="5435640" y="2276640"/>
              <a:ext cx="3216240" cy="24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7"/>
            <p:cNvSpPr/>
            <p:nvPr/>
          </p:nvSpPr>
          <p:spPr>
            <a:xfrm>
              <a:off x="7741440" y="436572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Jim Champion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>
              <a:hlinkClick r:id="rId2"/>
            </p:cNvPr>
            <p:cNvSpPr/>
            <p:nvPr/>
          </p:nvSpPr>
          <p:spPr>
            <a:xfrm>
              <a:off x="7812000" y="450864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Gwylan y Penwa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bwyta bron pob dim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hela pysgod fel penwa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bwyta pryfaid genwair, cramenogion a molysg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chwilota am fwyd mewn biniau sbw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eu gweld yng nghefn  gwlad, yn arbennig yn y ga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rhai pobl yn meddwl eu bod nhw’n bla yn y tref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>
            <a:hlinkClick r:id="rId3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4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Y Seren Fô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Bwyta molysgiaid, pryfaid genwair a sêr môr era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ochr isaf ei breichiau wedi ei orchuddio gyda ‘sugnwy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’n canfod ei ysglyfaeth yn defnyddio ei synnwyr arog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ddod o hyd iddyn nhw ar arfordir Cymru, yn aml iawn mewn pyllau glan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8"/>
          <p:cNvGrpSpPr/>
          <p:nvPr/>
        </p:nvGrpSpPr>
        <p:grpSpPr>
          <a:xfrm>
            <a:off x="5219640" y="2349360"/>
            <a:ext cx="3648240" cy="2737080"/>
            <a:chOff x="5219640" y="2349360"/>
            <a:chExt cx="3648240" cy="2737080"/>
          </a:xfrm>
        </p:grpSpPr>
        <p:pic>
          <p:nvPicPr>
            <p:cNvPr id="257" name="Picture 15" descr="Starfish on Long Nose Spit"/>
            <p:cNvPicPr/>
            <p:nvPr/>
          </p:nvPicPr>
          <p:blipFill>
            <a:blip r:embed="rId1"/>
            <a:stretch/>
          </p:blipFill>
          <p:spPr>
            <a:xfrm>
              <a:off x="5219640" y="2349360"/>
              <a:ext cx="364824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6"/>
            <p:cNvSpPr/>
            <p:nvPr/>
          </p:nvSpPr>
          <p:spPr>
            <a:xfrm>
              <a:off x="8027640" y="486900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David Anst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8101080" y="486900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Moroedd Cym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900000" y="2492280"/>
            <a:ext cx="216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Enw’r môr o amgylch Cymru ydi </a:t>
            </a:r>
            <a:r>
              <a:rPr b="1" lang="cy-GB" sz="2000" spc="-1" strike="noStrike">
                <a:solidFill>
                  <a:srgbClr val="333399"/>
                </a:solidFill>
                <a:latin typeface="Arial"/>
              </a:rPr>
              <a:t>Môr Iwerd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Mae’r môr yma’n rhan o </a:t>
            </a:r>
            <a:r>
              <a:rPr b="1" lang="cy-GB" sz="2000" spc="-1" strike="noStrike">
                <a:solidFill>
                  <a:srgbClr val="333399"/>
                </a:solidFill>
                <a:latin typeface="Arial"/>
              </a:rPr>
              <a:t>Gefnfor yr Iwery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21948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6372360" y="1628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Arfordir gogledd Cym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5148000" y="1844640"/>
            <a:ext cx="1439640" cy="36036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61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rynod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468360" y="163980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Rydych chi bellach wedi gweld yr amrywiaeth o fywyd gwyllt sydd i’w ganfod ym moroedd C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yna filoedd ar filoedd o rywogaethau: o gregyn gleision bach i grwbanod lledraidd mawr a heulforg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333399"/>
                </a:solidFill>
                <a:latin typeface="Arial"/>
              </a:rPr>
              <a:t>Ydach chi wedi gweld yr anifeiliaid hyn o’r bla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333399"/>
                </a:solidFill>
                <a:latin typeface="Arial"/>
              </a:rPr>
              <a:t>Fedrwch chi feddwl am unrhyw greadur arall sydd ddim wedi ei enwi yn y cyflwyniad ym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Beth sy’n byw ym moroedd Cymr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57200" y="2133720"/>
            <a:ext cx="82915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Mae’r moroedd o amgylch Cymru yn llawn bywyd gwy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Mae’r cynefinoedd gwahanol, fel traethau, clogwyni a riffiau yn gartref i wahanol rywogaet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Mae’r sleidiau nesaf yn edrych ar rai o’r creaduriaid rhyfeddol y gallwch chi ddod o hyd iddyn n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Bottlenose dolphin"/>
          <p:cNvPicPr/>
          <p:nvPr/>
        </p:nvPicPr>
        <p:blipFill>
          <a:blip r:embed="rId1"/>
          <a:stretch/>
        </p:blipFill>
        <p:spPr>
          <a:xfrm>
            <a:off x="5508720" y="2492280"/>
            <a:ext cx="3047760" cy="20304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Dolffin Trwynbw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Gallu tyfu hyd at 4 metr o h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maliaid clyfar, cymdeithasol a chwar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Byw mewn grwpiau o 3 i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 boblogaeth fwyaf ohonyn nhw ym Mae Ceredigion (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Bwyta pysgod, berdys a môr-lewy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Hela yn defnyddio ‘ecoleoli’ (tebyg i son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029440" y="42926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effk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>
            <a:hlinkClick r:id="rId2"/>
          </p:cNvPr>
          <p:cNvSpPr/>
          <p:nvPr/>
        </p:nvSpPr>
        <p:spPr>
          <a:xfrm>
            <a:off x="8101080" y="4292640"/>
            <a:ext cx="35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Y Fôr-wennol F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Aderyn môr bach sydd i’w weld mewn un lle yng Nghym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Yn mudo i Affrica ar gyfer y ga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Yn dychwelyd i’r un lle ar draeth Gronant pob blwyddyn i fri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Yn hela llymrïaid mewn dyfroedd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Little Tern with chick at Gronant - John Power"/>
          <p:cNvPicPr/>
          <p:nvPr/>
        </p:nvPicPr>
        <p:blipFill>
          <a:blip r:embed="rId1"/>
          <a:stretch/>
        </p:blipFill>
        <p:spPr>
          <a:xfrm>
            <a:off x="5364000" y="2708280"/>
            <a:ext cx="3327480" cy="221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7959240" y="472428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hn P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Cregyn Gle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molysgiaid yn byw yn yr ardal ‘rynglanw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Pan mae’r môr ar drai fe allwch chi eu gweld ar y glannau creigi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wyta drwy hidlo dŵr môr a thynnu gronynnau o fwyd o’r dŵ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pobl yn ffermio cregyn gleision ar gyfer eu bwy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>
            <a:hlinkClick r:id="rId4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CornishMussels"/>
          <p:cNvPicPr/>
          <p:nvPr/>
        </p:nvPicPr>
        <p:blipFill>
          <a:blip r:embed="rId5"/>
          <a:stretch/>
        </p:blipFill>
        <p:spPr>
          <a:xfrm>
            <a:off x="5219640" y="2205000"/>
            <a:ext cx="3554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Morgath Big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Pysgodyn mawr f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eu sgerbwd wedi ei wneud o gartilag (fel eich trwyn a’ch clustiau) ac nid asgw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Enw casys ei wyau ydi ‘pyrsiau y fôr-forwyn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ddod o hyd i byrsiau y fôr-forwyn ar draet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9437409441_f7df8964b6"/>
          <p:cNvPicPr/>
          <p:nvPr/>
        </p:nvPicPr>
        <p:blipFill>
          <a:blip r:embed="rId3"/>
          <a:stretch/>
        </p:blipFill>
        <p:spPr>
          <a:xfrm>
            <a:off x="5580000" y="1700280"/>
            <a:ext cx="2890800" cy="2168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7"/>
          <p:cNvSpPr/>
          <p:nvPr/>
        </p:nvSpPr>
        <p:spPr>
          <a:xfrm>
            <a:off x="7668360" y="364500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ames Lyn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>
            <a:hlinkClick r:id="rId4"/>
          </p:cNvPr>
          <p:cNvSpPr/>
          <p:nvPr/>
        </p:nvSpPr>
        <p:spPr>
          <a:xfrm>
            <a:off x="7740720" y="36450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"/>
          <p:cNvPicPr/>
          <p:nvPr/>
        </p:nvPicPr>
        <p:blipFill>
          <a:blip r:embed="rId5"/>
          <a:stretch/>
        </p:blipFill>
        <p:spPr>
          <a:xfrm>
            <a:off x="5724360" y="3933720"/>
            <a:ext cx="2664000" cy="1538280"/>
          </a:xfrm>
          <a:prstGeom prst="rect">
            <a:avLst/>
          </a:prstGeom>
          <a:ln w="0">
            <a:noFill/>
          </a:ln>
        </p:spPr>
      </p:pic>
      <p:sp>
        <p:nvSpPr>
          <p:cNvPr id="112" name="Line 24"/>
          <p:cNvSpPr/>
          <p:nvPr/>
        </p:nvSpPr>
        <p:spPr>
          <a:xfrm>
            <a:off x="4572000" y="3860640"/>
            <a:ext cx="1655640" cy="72072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Morfr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Aderyn mawr gyda gwddf h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gallu nofio o dan y dŵr yn dda i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hela am bysgod yn y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Rydych chi’n eu gweld yn aml yn sefyll gyda’u hadenydd ar led yn ceisio eu syc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I’w gweld o gwmpas arfordir Cymru ac yng nghefn gw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A cormorant (Phalacrocorax carbo) at Eyemouth harbour"/>
          <p:cNvPicPr/>
          <p:nvPr/>
        </p:nvPicPr>
        <p:blipFill>
          <a:blip r:embed="rId4"/>
          <a:stretch/>
        </p:blipFill>
        <p:spPr>
          <a:xfrm>
            <a:off x="5508720" y="2421000"/>
            <a:ext cx="3359160" cy="226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>
            <a:hlinkClick r:id="rId5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Ystifflog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ystifflog yn fath o folwsg o’r enw ‘seffalopo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perthyn i fôr-lewys (</a:t>
            </a:r>
            <a:r>
              <a:rPr b="0" i="1" lang="cy-GB" sz="2400" spc="-1" strike="noStrike">
                <a:solidFill>
                  <a:srgbClr val="333399"/>
                </a:solidFill>
                <a:latin typeface="Arial"/>
              </a:rPr>
              <a:t>squids</a:t>
            </a: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) ac octopys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Pan maen nhw’n teimlo dan fygythiad maen nhw’n rhyddhau inc i’r dŵr i ddrysu ysglyfaethwyr ac i ddia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ysglyfaethwyr bywiog ac yn bwyta molysgiaid eraill, pysgod ifanc a chran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5508720" y="2276640"/>
            <a:ext cx="3047760" cy="2304720"/>
            <a:chOff x="5508720" y="2276640"/>
            <a:chExt cx="3047760" cy="2304720"/>
          </a:xfrm>
        </p:grpSpPr>
        <p:pic>
          <p:nvPicPr>
            <p:cNvPr id="136" name="Picture 19" descr="320px-Sepia_officinalis_%28aquarium%29"/>
            <p:cNvPicPr/>
            <p:nvPr/>
          </p:nvPicPr>
          <p:blipFill>
            <a:blip r:embed="rId3"/>
            <a:stretch/>
          </p:blipFill>
          <p:spPr>
            <a:xfrm>
              <a:off x="5508720" y="227664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7"/>
            <p:cNvSpPr/>
            <p:nvPr/>
          </p:nvSpPr>
          <p:spPr>
            <a:xfrm>
              <a:off x="6804000" y="4365720"/>
              <a:ext cx="174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© Hans Hillewaert / CC-BY-SA-3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>
              <a:hlinkClick r:id="rId4"/>
            </p:cNvPr>
            <p:cNvSpPr/>
            <p:nvPr/>
          </p:nvSpPr>
          <p:spPr>
            <a:xfrm>
              <a:off x="6877080" y="436572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4:43:44Z</dcterms:created>
  <dc:creator>eli93093</dc:creator>
  <dc:description/>
  <dc:language>en-US</dc:language>
  <cp:lastModifiedBy>eli93093</cp:lastModifiedBy>
  <dcterms:modified xsi:type="dcterms:W3CDTF">2014-01-09T15:01:01Z</dcterms:modified>
  <cp:revision>48</cp:revision>
  <dc:subject/>
  <dc:title>Slide 1</dc:title>
</cp:coreProperties>
</file>