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A53-A077-432F-B839-753991A0AC58}" type="slidenum">
              <a:rPr b="0" lang="cy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lfan Rhif y Sleid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A82A-87CF-4DD4-8457-496058922F89}" type="slidenum">
              <a:rPr b="0" lang="cy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C7C-4523-4C1D-975C-8D97762D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0E-87BC-484C-90FE-5EB5F1E5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865-BA01-419B-A78E-20DF06C3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45C-FF35-47ED-91D2-F95E0C88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9FA-3A5D-4289-9F43-C45E634E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B8C-3E2A-42DD-B4A3-74A824C5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756-8081-41C8-974D-342A27C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E0D-F0D0-4FA2-82E0-7BFBC4F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60B-CC45-4965-AB3E-B50C60C7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9E6-A57B-414B-8EE2-B46272C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D4E-B5D2-48C9-8A96-4C7B14D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391-827B-4A43-B884-456CF2A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733B-0DC0-40B8-A35F-94CD0FCD1D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y Môr a’r Arfor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333399"/>
                </a:solidFill>
                <a:latin typeface="Arial"/>
              </a:rPr>
              <a:t>Cw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9. Pa un o’r rhain na welwch chi ym moroedd Cymru?</a:t>
            </a:r>
            <a:r>
              <a:rPr b="0" lang="cy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imw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morlewod yn byw yn y rhan fwyaf o foroedd, ar wahân i Gefnfor yr Iwerydd. Mae’r holl rywogaethau eraill i’w canfod ym moroedd Cym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Crwban Lledrai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f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orl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Pa anifail sy’n rhyddhau inc i amddiffyn ei hun rhag ysglyfaethwyr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’r inc yn drysu ysglyfaethwyr ac yn rhoi amser i’r ystifflog ddianc. Mae môr-lewys (</a:t>
            </a:r>
            <a:r>
              <a:rPr b="0" i="1" lang="cy-GB" sz="1800" spc="-1" strike="noStrike">
                <a:solidFill>
                  <a:srgbClr val="333399"/>
                </a:solidFill>
                <a:latin typeface="Arial"/>
              </a:rPr>
              <a:t>squids</a:t>
            </a: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) ac octopysau hefyd yn gwneud h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Ystiff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1. Beth yw’r pysgodyn mwyaf ym moroedd Cymr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Gall heulforgi dyfu hyd 10 metr o hy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2. Pwy piau’r pig lliwgar y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pig aderyn y pâl yn fwy lliwgar fyth yn ystod y tymor bridio (gwanwyn a’r ha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deryn y Pâ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Pa un o’r rhain sydd ddim yn fa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Pysgodyn yw’r Heulforgi. Mae’r anifeiliaid eraill yn famali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ol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4. Beth ydi enw babis morlo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3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Lloi bach ydi enw babis morlo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8" name="Picture 22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23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5. Lle mae’r fôr-wenol fach yn mynd yn y gaea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Gorllewin Affrica. Maen nhw’n mudo yno ar gyfer y gaea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Pa fath o nwy mae gwymon yn ei gynhyrchu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1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csi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Yn union fel coed, mae gwymon yn rhyddhau ocsigen i’r atmosffer ac yn amsugno carbon deuocs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2. Beth ydi ‘pwrs y fôr-forwyn’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333399"/>
                </a:solidFill>
                <a:latin typeface="Arial"/>
              </a:rPr>
              <a:t>Cas wy siarcod a chathod mô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siarcod a chathod môr bychain yn deori o’r wyau yma. Mae’r casus wedyn yn golchi i’r 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3. Ym mha begwn mae’r arth wen yn by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egwn y Gogle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’r eirth gwynion yn byw yn hemisffer y gogledd, gan gynnwys Canada, Norwy, Rwsia a’r Ynys Las. Dydyn nhw ddim yn byw ym Mhegwn y D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Beth ydi enw torfol pysg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aig o Bys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Enw torfol pysgod ydi haig. Gall un haig gynnwys miliynau o bysg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Beth yw’r aderyn môr mwy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333399"/>
                </a:solidFill>
                <a:latin typeface="Arial"/>
              </a:rPr>
              <a:t>Alba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Yr aderyn môr mwyaf ydi’r albatros, mae lled ei adenydd yn oddeutu 3.5 me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6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Ai anifail neu blanhigyn ydi cwrel?</a:t>
            </a:r>
            <a:r>
              <a:rPr b="0" lang="cy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nif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pob “planhigyn” cwrel wedi ei wneud allan o filoedd o anifeiliaid bychain sy’n byw gyda’i gily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7. Beth mae môr-grwban yn fwyt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lefrenni Mô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900000" y="5805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môr-grwbanod yn bwyta slefrenni môr. Ond yn anffodus mae llawer o grwbanod yn marw pob blwyddyn ar ôl bwyta bagiau plastig mewn camgymeri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8. Sawl canran o’r Ddaear sydd dan ddŵ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70% o wyneb y Ddaear dan ddŵr. Mae oddeutu 97% o’r dŵr hwnnw yn ddŵr mô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4-01-09T14:57:07Z</dcterms:modified>
  <cp:revision>30</cp:revision>
  <dc:subject/>
  <dc:title>Marine &amp; Coastal Biodiversity</dc:title>
</cp:coreProperties>
</file>