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052-DCCD-4ACB-9F20-C049B30C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B1E-36EE-43CE-9424-7D3D666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1F5-4214-4713-897A-833D01DE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C5E-1D0A-43FB-AAE8-E52EB9C0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782-8A10-4F5C-887A-6425F39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F85-2CF1-4ADE-9997-2C94538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EF8-A444-4AE5-BE50-A3D58BC1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D01-AC28-44C4-AC97-8F8DC1D0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E3F-7DA7-489A-B4F0-466B56D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04F-A32D-4FFE-A6E8-0FC83B3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1E0-3F25-4CB5-9910-5E41F1AE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8FF-BFBE-46C1-BAE7-4927D69F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6EAF-27A0-4C52-B914-4A035C2B9A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333399"/>
                </a:solidFill>
                <a:latin typeface="Arial"/>
                <a:ea typeface="Arial"/>
              </a:rPr>
              <a:t>Bywyd Gwyllt </a:t>
            </a:r>
            <a:br>
              <a:rPr sz="5400"/>
            </a:br>
            <a:r>
              <a:rPr b="1" lang="cy-GB" sz="5400" spc="-1" strike="noStrike">
                <a:solidFill>
                  <a:srgbClr val="333399"/>
                </a:solidFill>
                <a:latin typeface="Arial"/>
                <a:ea typeface="Arial"/>
              </a:rPr>
              <a:t>y Môr a’r Arford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Beth sy’n byw yn y mô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r môr yn llawn o greaduriaid rhyfed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r sleidiau nesaf yn edrych ar y prif fathau o </a:t>
            </a:r>
            <a:r>
              <a:rPr b="1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blanhigion ac anifeiliaid </a:t>
            </a: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sy’n byw yn y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828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4360" y="5734080"/>
              <a:ext cx="50292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360" y="4653000"/>
              <a:ext cx="43164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360" y="4005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6640"/>
              <a:ext cx="36036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360" y="573408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5080" y="4653000"/>
              <a:ext cx="7189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720" y="595008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000" y="486900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Planh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sawl math o wy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gwymon yn gallu bod yn goch, brown neu’n wyr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gwymon yn defnyddio golau’r haul a CO</a:t>
            </a:r>
            <a:r>
              <a:rPr b="0" lang="cy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 i wneud bw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gan rai bocedi aer i’w helpu nhw arnof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n nhw’n sownd wrth greigiau neu wely’r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720" y="580572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640"/>
            <a:chOff x="5435640" y="1557360"/>
            <a:chExt cx="2945160" cy="208764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720" y="3500640"/>
              <a:ext cx="57600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ys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Gwaed o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Corff main ar gyfer nof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cael ocsigen trwy eu tagell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n nhw’n amrywio o ran maint – rhai yn llai nag 1cm ac eraill cyn hired ag 16 me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iloedd o rywogaethau gwa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Bwyd pwysig i bo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720" y="234936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1640" y="4149720"/>
              <a:ext cx="79200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Mamali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tri phrif grŵ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orfilod a dolffin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or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natîaid a dwgongi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dod i’r wyneb i anad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rhoi llefrith i’w lloi b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Gwaed cy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 morfil glas ydi’r anifail mwyaf erioed i fyw ar y Dda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000" y="3068640"/>
              <a:ext cx="7207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360" y="4653000"/>
              <a:ext cx="57600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000" y="6237720"/>
              <a:ext cx="863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llawer o adar môr yn treulio eu bywydau cyfan ar y môr – gan ddod i’r tir i fagu eu cyw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eraill yn aros ar hyd yr arfordir drwy gydol y flwydd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aml iawn maen nhw’n byw mewn nythfeydd enfawr ar glogwy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Albatros ydi’r aderyn môr mwyaf (gall lled ei adenydd fod yn 3.5 me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adar môr yn cynnwys palod, gwylanod, pengwiniaid, hwyaid môr a morf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5080" y="3213000"/>
              <a:ext cx="574560" cy="1425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0640"/>
              <a:ext cx="64764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 flipV="1">
            <a:off x="5003640" y="4508640"/>
            <a:ext cx="1944720" cy="288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Ymlusgia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Gwaed o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Dod i’r wyneb i anad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Crwb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dfal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Crocodeili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Nadro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5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"/>
            <p:cNvSpPr/>
            <p:nvPr/>
          </p:nvSpPr>
          <p:spPr>
            <a:xfrm>
              <a:off x="730872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3"/>
            <p:cNvSpPr/>
            <p:nvPr/>
          </p:nvSpPr>
          <p:spPr>
            <a:xfrm>
              <a:off x="738324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"/>
            <p:cNvSpPr/>
            <p:nvPr/>
          </p:nvSpPr>
          <p:spPr>
            <a:xfrm>
              <a:off x="7451640" y="443700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6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Anifeiliaid di-asgwrn-cef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2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524720" y="3213000"/>
              <a:ext cx="50472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7669440" y="4508640"/>
              <a:ext cx="28728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3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4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5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6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7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0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9">
              <a:hlinkClick r:id="rId10"/>
            </p:cNvPr>
            <p:cNvSpPr/>
            <p:nvPr/>
          </p:nvSpPr>
          <p:spPr>
            <a:xfrm>
              <a:off x="7451640" y="299556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">
              <a:hlinkClick r:id="rId11"/>
            </p:cNvPr>
            <p:cNvSpPr/>
            <p:nvPr/>
          </p:nvSpPr>
          <p:spPr>
            <a:xfrm>
              <a:off x="7451640" y="4363920"/>
              <a:ext cx="50472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7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16"/>
            <p:cNvSpPr/>
            <p:nvPr/>
          </p:nvSpPr>
          <p:spPr>
            <a:xfrm>
              <a:off x="6227640" y="256392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19"/>
            <p:cNvSpPr/>
            <p:nvPr/>
          </p:nvSpPr>
          <p:spPr>
            <a:xfrm>
              <a:off x="6227640" y="393372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20"/>
            <p:cNvSpPr/>
            <p:nvPr/>
          </p:nvSpPr>
          <p:spPr>
            <a:xfrm>
              <a:off x="7367760" y="299700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23"/>
            <p:cNvSpPr/>
            <p:nvPr/>
          </p:nvSpPr>
          <p:spPr>
            <a:xfrm>
              <a:off x="7435440" y="436572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5">
              <a:hlinkClick r:id="rId16"/>
            </p:cNvPr>
            <p:cNvSpPr/>
            <p:nvPr/>
          </p:nvSpPr>
          <p:spPr>
            <a:xfrm>
              <a:off x="7380360" y="1771560"/>
              <a:ext cx="57600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6">
              <a:hlinkClick r:id="rId17"/>
            </p:cNvPr>
            <p:cNvSpPr/>
            <p:nvPr/>
          </p:nvSpPr>
          <p:spPr>
            <a:xfrm>
              <a:off x="7451640" y="3068640"/>
              <a:ext cx="50472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7">
              <a:hlinkClick r:id="rId18"/>
            </p:cNvPr>
            <p:cNvSpPr/>
            <p:nvPr/>
          </p:nvSpPr>
          <p:spPr>
            <a:xfrm>
              <a:off x="7451640" y="4437000"/>
              <a:ext cx="50472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0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396200" y="1699920"/>
              <a:ext cx="57636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23">
              <a:hlinkClick r:id="rId21"/>
            </p:cNvPr>
            <p:cNvSpPr/>
            <p:nvPr/>
          </p:nvSpPr>
          <p:spPr>
            <a:xfrm>
              <a:off x="7540560" y="3139920"/>
              <a:ext cx="36036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5">
              <a:hlinkClick r:id="rId23"/>
            </p:cNvPr>
            <p:cNvSpPr/>
            <p:nvPr/>
          </p:nvSpPr>
          <p:spPr>
            <a:xfrm>
              <a:off x="7540560" y="4508640"/>
              <a:ext cx="43164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Does gan yr anifeiliaid yma ddim asgwrn ce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Llawer o greaduriaid rhyfed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Prif fath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olysg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Crameno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Ecinoderm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Cnidar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ryfaid genw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rynod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Dydi’r moroedd i gyd ddim yr un fa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 moroedd yn llawn byw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Rydych chi rŵan wedi gweld rhai o’r cynefinoedd a’r anifeiliaid sydd yn y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A rhai o’r creaduriaid bach eraill sy’n byw y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333399"/>
                </a:solidFill>
                <a:latin typeface="Arial"/>
              </a:rPr>
              <a:t>Gyda’ch ffrindiau, treuliwch ychydig o funudau yn siarad am y pethau rydych chi wedi eu dys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Mae’r rhan fwyaf o’n planed </a:t>
            </a:r>
            <a:br>
              <a:rPr sz="4400"/>
            </a:b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dan ddŵr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333399"/>
                </a:solidFill>
                <a:latin typeface="Arial"/>
              </a:rPr>
              <a:t>Mae 70% o wyneb y Ddaear dan ddŵ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Mae 97% o’r dŵr yn ddŵr mô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Dyma </a:t>
            </a:r>
            <a:r>
              <a:rPr b="1" lang="cy-GB" sz="2000" spc="-1" strike="noStrike">
                <a:solidFill>
                  <a:srgbClr val="333399"/>
                </a:solidFill>
                <a:latin typeface="Arial"/>
              </a:rPr>
              <a:t>Cym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37236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Rydym ni wedi ein hamgylchynu gan </a:t>
            </a:r>
            <a:r>
              <a:rPr b="1" lang="cy-GB" sz="1800" spc="-1" strike="noStrike">
                <a:solidFill>
                  <a:srgbClr val="333399"/>
                </a:solidFill>
                <a:latin typeface="Arial"/>
              </a:rPr>
              <a:t>Gefnfor yr Iwery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Lle mae creaduriaid y môr yn by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union fel y tir, mae’r môr yn cynnwys nifer o gynefinoedd gwa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pob cynefin yn gartref i amrywiaeth o blanhigion ac anifeili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amodau fel tymheredd, dyfnder a cherrynt dŵr yn effeithio ar ble gall rhywogaethau fy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r sleidiau nesaf yn edrych ar </a:t>
            </a:r>
            <a:r>
              <a:rPr b="1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gynefinoedd cefnforo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Coedwigoedd Môr-wi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th o wymon ydi môr-wi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coedwigoedd anferthol tanddwr yn amsugno carbon deuoc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pysgod a rhywogaethau eraill yn byw rhwng y môr-wi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1080" y="4869000"/>
              <a:ext cx="5029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Riffiau Cw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ewn dyfroedd cynnes trofan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Cartref miloedd o rywogaethau gwa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 Barriff Mawr oddi ar arfordir Awstralia ydi’r riff cwrel mwyaf yn y b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n gartref i 1,500 math o bysgody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Crwbanod, siarcod, dolffiniaid a morfi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720" y="5517000"/>
              <a:ext cx="7189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Y Môr Ago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illtir ar ôl milltir o f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mhell oddi wrth yr arfor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rhai o anifeiliaid mwyaf y byd yn byw yma e.e. morfi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3640" y="4724640"/>
              <a:ext cx="7207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Y Dyfn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ddwfn yn y môr mae rhai o greaduriaid rhyfeddaf y by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n nhw’n byw yn y tywyllw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rhai yn gwneud eu golau eu hun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Isopod dyfnfor ydi’r creadur 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364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– Yr Ardal Rhynglan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55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‘rhynglanw’ yn              golygu rhwng y llanw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Dyma’r ardal ar y lan                   sydd dan ddŵr ar           benllanw ond yn y              golwg pan fo’r môr ar            d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Dyma’r lle hawsaf i             fforio bywyd gwyllt y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Traethau, pyllau glan môr a gwastadeddau ll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720"/>
              <a:ext cx="108108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– Clogwy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clogwyni ar yr arfordir yn hynod bwysig i adar sy’n nyt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miloedd o adar yn nythu gyda’i gilydd mewn nythfeydd maw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morloi yn magu eu lloi mewn cildraethau rhwng clogwy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7080" y="5013360"/>
              <a:ext cx="57600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4-01-09T15:02:11Z</dcterms:modified>
  <cp:revision>51</cp:revision>
  <dc:subject/>
  <dc:title>Marine &amp; Coastal Biodiversity</dc:title>
</cp:coreProperties>
</file>